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COCHET.WAV" ContentType="audio/x-wav"/>
  <Override PartName="/ppt/media/WHOOSH.WAV" ContentType="audio/x-wav"/>
  <Override PartName="/ppt/media/DRIVEBY.WAV" ContentType="audio/x-wav"/>
  <Override PartName="/ppt/media/CARBRAKE.WAV" ContentType="audio/x-wav"/>
  <Override PartName="/ppt/media/LASER.WAV" ContentType="audio/x-wav"/>
  <Override PartName="/ppt/media/CAMERA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953-4EBA-41C1-8770-580DEA30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D84-1B5B-4FCF-8F38-4514870E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556-36B7-432C-B64C-4FBFB6C6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6C2-C9ED-4C17-B314-BE9E78F2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DB6-9CFF-4205-9577-2F569C0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A0C-3A8F-4696-91BB-2E16ED00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C05-1416-4CEF-8618-3A8A41C1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B78-E61F-47FA-88EB-9C77E707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FA0-59F9-4186-AA92-887EEDB9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A8C-EBF3-4504-B59D-989725B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9BC-78C6-44AD-9AC9-80BB7C10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642-D004-4923-8B4A-C4881722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4F8-D267-403A-9BDB-17C353430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752480" y="2971800"/>
                <a:ext cx="497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6629400" y="5334120"/>
            <a:ext cx="314280" cy="3524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486400"/>
            <a:ext cx="3782880" cy="1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5334120"/>
            <a:ext cx="311400" cy="3204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905120" y="5562720"/>
                <a:ext cx="642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 txBox="1"/>
          <p:nvPr/>
        </p:nvSpPr>
        <p:spPr>
          <a:xfrm>
            <a:off x="762120" y="533520"/>
            <a:ext cx="74674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TES  OVER  INEQUALIT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80880" y="1600200"/>
                <a:ext cx="4079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495680" y="1447920"/>
                <a:ext cx="43434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33520" y="2209680"/>
                <a:ext cx="1147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429000" y="2209680"/>
                <a:ext cx="914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09480" y="2895480"/>
            <a:ext cx="3892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76520" y="3048120"/>
                <a:ext cx="639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971800" y="2971800"/>
                <a:ext cx="496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828800" y="4446720"/>
                <a:ext cx="14479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952880" y="2057400"/>
                <a:ext cx="3581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572000" y="2666880"/>
                <a:ext cx="11811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876920" y="34290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907240" y="3581280"/>
                <a:ext cx="560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907240" y="3581280"/>
                <a:ext cx="1662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736040" y="3505320"/>
                <a:ext cx="1407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57200" y="5486400"/>
            <a:ext cx="3738600" cy="1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5334120"/>
            <a:ext cx="1440" cy="32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334120"/>
            <a:ext cx="1440" cy="32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5334120"/>
            <a:ext cx="1800" cy="32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43200" y="5562720"/>
                <a:ext cx="641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066680" y="5562720"/>
                <a:ext cx="6066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334120" y="5334120"/>
            <a:ext cx="1440" cy="3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5486400"/>
            <a:ext cx="175248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5334120"/>
            <a:ext cx="1440" cy="3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5334120"/>
            <a:ext cx="1800" cy="3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5334120"/>
            <a:ext cx="1800" cy="3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943600" y="5715000"/>
                <a:ext cx="12952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181480" y="5715000"/>
                <a:ext cx="28908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         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934320" y="5486400"/>
            <a:ext cx="16761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362320" y="2209680"/>
                <a:ext cx="1147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23880" y="2209680"/>
                <a:ext cx="914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96080" y="2666880"/>
                <a:ext cx="99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2666880"/>
                <a:ext cx="9889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553080" y="2666880"/>
                <a:ext cx="11811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200400"/>
                <a:ext cx="4557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666880" y="3048120"/>
                <a:ext cx="10540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440400" y="3733920"/>
                <a:ext cx="4302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21640" y="3581280"/>
                <a:ext cx="736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010280" y="5867280"/>
            <a:ext cx="304920" cy="304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5680" y="5790240"/>
            <a:ext cx="68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      l       l       l       l       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457200"/>
            <a:ext cx="73152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TES  OVER INEQUALIT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80" y="914400"/>
                <a:ext cx="83822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28680" y="1523880"/>
                <a:ext cx="2455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28800" y="1523880"/>
                <a:ext cx="26622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    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219320" y="220968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752480" y="2209680"/>
                <a:ext cx="1001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33720" y="2133720"/>
                <a:ext cx="160632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0" y="3352680"/>
                <a:ext cx="19479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118120" y="1447920"/>
                <a:ext cx="2527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−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1447920"/>
                <a:ext cx="285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5257800" y="21337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78600" y="2216160"/>
                <a:ext cx="650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248520" y="2743200"/>
                <a:ext cx="1504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648320" y="2971800"/>
                <a:ext cx="9712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601992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86280" y="5752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0720" y="6094800"/>
            <a:ext cx="74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- 6   - 4     - 2      0      2       4      6       8     10     12  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486400"/>
            <a:ext cx="228600" cy="2286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5638680"/>
            <a:ext cx="60195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5181480"/>
            <a:ext cx="228600" cy="2286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6019920"/>
            <a:ext cx="9144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66880" y="2286000"/>
                <a:ext cx="433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48120" y="2209680"/>
                <a:ext cx="696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705720" y="2286000"/>
                <a:ext cx="463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238880" y="2209680"/>
                <a:ext cx="463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2590920"/>
            <a:ext cx="228600" cy="30456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2590920"/>
            <a:ext cx="228600" cy="30456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2840" y="2513520"/>
            <a:ext cx="68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      l       l       l       l       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9240" y="457200"/>
            <a:ext cx="8696160" cy="495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TES  OVER  ABSOLUTE  VAL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14600" y="914400"/>
                <a:ext cx="3238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90800" y="1904040"/>
            <a:ext cx="88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finition, it is less than____units away from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0600" y="289476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- 15    - 10     - 5        0        5       10       15     20       25     30       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743200"/>
            <a:ext cx="480060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2440" y="335196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lge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1280" y="38858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y - 9 &lt;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87280" y="388584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y - 9 &gt; -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88240" y="4343040"/>
            <a:ext cx="14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9     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39280" y="49525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y &lt; 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71200" y="43430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9       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495288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2800" y="495252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y &gt; -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11160" y="49525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8360" y="1828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29680" y="1850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75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600200" y="3581280"/>
                <a:ext cx="164160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2840" y="5942520"/>
            <a:ext cx="68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      l       l       l       l       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6019920"/>
            <a:ext cx="244440" cy="3045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6019920"/>
            <a:ext cx="244440" cy="3045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9240" y="457200"/>
            <a:ext cx="8696160" cy="495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TES  OVER  ABSOLUTE  VAL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838080"/>
                <a:ext cx="38102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3840" y="182808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lge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62120" y="2438280"/>
                <a:ext cx="2730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29200" y="2057400"/>
                <a:ext cx="28954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536920" y="2955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23880" y="2971800"/>
                <a:ext cx="1863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715000" y="2590920"/>
                <a:ext cx="21128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762120" y="35053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32004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523880" y="35812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715000" y="3200400"/>
                <a:ext cx="2193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3200400"/>
                <a:ext cx="190980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752480" y="4876920"/>
                <a:ext cx="14097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943600" y="4419720"/>
                <a:ext cx="220824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1560" y="6338160"/>
            <a:ext cx="76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-12    -9    -6    -3     0     3     6     9     12   15  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6172200"/>
            <a:ext cx="32004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70000" y="1374120"/>
            <a:ext cx="69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stellar"/>
              </a:rPr>
              <a:t>Bookwor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stellar"/>
              </a:rPr>
              <a:t>pg. 656 #17-75 first colum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675"/>
                            </p:stCondLst>
                            <p:childTnLst>
                              <p:par>
                                <p:cTn id="509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20:18:39Z</dcterms:created>
  <dc:creator>CCSS</dc:creator>
  <dc:description/>
  <dc:language>en-US</dc:language>
  <cp:lastModifiedBy>damon.skelton</cp:lastModifiedBy>
  <dcterms:modified xsi:type="dcterms:W3CDTF">2003-04-17T16:11:39Z</dcterms:modified>
  <cp:revision>10</cp:revision>
  <dc:subject/>
  <dc:title>No Slide Title</dc:title>
</cp:coreProperties>
</file>